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FB5A-90F6-41E7-BE77-D473DFA7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BFE-BE0A-4A87-879A-2BDBAD2D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4E1-0A14-4718-A086-F9C948C9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C905-E44E-4081-A62C-5C9645EB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C34A-A5E2-455E-A7FD-34D6387C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E1E3-9BEF-42FD-99CD-5FDA35E4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AAB3-D4CE-4FB9-A077-424F0592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706B-185D-4B7C-BB59-C8B52761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8B73-7DA4-4A78-A697-CABBF873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1E05-8680-4ADE-8BE3-C893F552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7962-926E-4D9E-B4A4-5DBC1CC4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6D6-F24A-47DE-B215-30D7CA84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F78A-8331-4B0C-AD0C-9F02C98D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0FD1-3F6D-4A0B-9D67-ED6195E0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BDEA-D0A4-4673-AA2D-702238E3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585D-1FB1-4613-8415-9A80829D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9585-3850-42BF-A960-417ED380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7CE9-E132-4473-AE48-EB5651C1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D34-3C9B-4E2E-9D49-EFFDCFBB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F67-5437-482D-90DC-27DFEDC8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7B1-A3BC-4698-B4E3-262FF07D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961-0326-4334-B12D-5C39E26B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A53-DDDD-4AA3-AA1B-9C0B9F63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9CE-9380-4452-80AB-3E1B70B8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1" name=""/>
            <p:cNvGrpSpPr/>
            <p:nvPr/>
          </p:nvGrpSpPr>
          <p:grpSpPr>
            <a:xfrm>
              <a:off x="-11160" y="15840"/>
              <a:ext cx="9166320" cy="6878520"/>
              <a:chOff x="-11160" y="15840"/>
              <a:chExt cx="9166320" cy="6878520"/>
            </a:xfrm>
          </p:grpSpPr>
          <p:sp>
            <p:nvSpPr>
              <p:cNvPr id="2" name=""/>
              <p:cNvSpPr/>
              <p:nvPr/>
            </p:nvSpPr>
            <p:spPr>
              <a:xfrm>
                <a:off x="-11160" y="1836720"/>
                <a:ext cx="2268720" cy="2709720"/>
              </a:xfrm>
              <a:custGeom>
                <a:avLst/>
                <a:gdLst/>
                <a:ahLst/>
                <a:rect l="l" t="t" r="r" b="b"/>
                <a:pathLst>
                  <a:path w="1429" h="1707">
                    <a:moveTo>
                      <a:pt x="808" y="283"/>
                    </a:moveTo>
                    <a:lnTo>
                      <a:pt x="673" y="252"/>
                    </a:lnTo>
                    <a:lnTo>
                      <a:pt x="654" y="0"/>
                    </a:lnTo>
                    <a:lnTo>
                      <a:pt x="488" y="13"/>
                    </a:lnTo>
                    <a:lnTo>
                      <a:pt x="476" y="252"/>
                    </a:lnTo>
                    <a:lnTo>
                      <a:pt x="365" y="290"/>
                    </a:lnTo>
                    <a:lnTo>
                      <a:pt x="206" y="86"/>
                    </a:lnTo>
                    <a:lnTo>
                      <a:pt x="95" y="148"/>
                    </a:lnTo>
                    <a:lnTo>
                      <a:pt x="200" y="376"/>
                    </a:lnTo>
                    <a:lnTo>
                      <a:pt x="126" y="450"/>
                    </a:lnTo>
                    <a:lnTo>
                      <a:pt x="0" y="423"/>
                    </a:lnTo>
                    <a:lnTo>
                      <a:pt x="0" y="1273"/>
                    </a:lnTo>
                    <a:lnTo>
                      <a:pt x="101" y="1226"/>
                    </a:lnTo>
                    <a:lnTo>
                      <a:pt x="181" y="1306"/>
                    </a:lnTo>
                    <a:lnTo>
                      <a:pt x="70" y="1509"/>
                    </a:lnTo>
                    <a:lnTo>
                      <a:pt x="175" y="1596"/>
                    </a:lnTo>
                    <a:lnTo>
                      <a:pt x="365" y="1411"/>
                    </a:lnTo>
                    <a:lnTo>
                      <a:pt x="476" y="1448"/>
                    </a:lnTo>
                    <a:lnTo>
                      <a:pt x="501" y="1700"/>
                    </a:lnTo>
                    <a:lnTo>
                      <a:pt x="667" y="1707"/>
                    </a:lnTo>
                    <a:lnTo>
                      <a:pt x="685" y="1442"/>
                    </a:lnTo>
                    <a:lnTo>
                      <a:pt x="826" y="1405"/>
                    </a:lnTo>
                    <a:lnTo>
                      <a:pt x="993" y="1590"/>
                    </a:lnTo>
                    <a:lnTo>
                      <a:pt x="1103" y="1522"/>
                    </a:lnTo>
                    <a:lnTo>
                      <a:pt x="993" y="1300"/>
                    </a:lnTo>
                    <a:lnTo>
                      <a:pt x="1067" y="1207"/>
                    </a:lnTo>
                    <a:lnTo>
                      <a:pt x="1288" y="1312"/>
                    </a:lnTo>
                    <a:lnTo>
                      <a:pt x="1355" y="1196"/>
                    </a:lnTo>
                    <a:lnTo>
                      <a:pt x="1153" y="1047"/>
                    </a:lnTo>
                    <a:lnTo>
                      <a:pt x="1177" y="918"/>
                    </a:lnTo>
                    <a:lnTo>
                      <a:pt x="1429" y="894"/>
                    </a:lnTo>
                    <a:lnTo>
                      <a:pt x="1423" y="764"/>
                    </a:lnTo>
                    <a:lnTo>
                      <a:pt x="1171" y="727"/>
                    </a:lnTo>
                    <a:lnTo>
                      <a:pt x="1146" y="629"/>
                    </a:lnTo>
                    <a:lnTo>
                      <a:pt x="1349" y="487"/>
                    </a:lnTo>
                    <a:lnTo>
                      <a:pt x="1282" y="370"/>
                    </a:lnTo>
                    <a:lnTo>
                      <a:pt x="1054" y="462"/>
                    </a:lnTo>
                    <a:lnTo>
                      <a:pt x="980" y="388"/>
                    </a:lnTo>
                    <a:lnTo>
                      <a:pt x="1097" y="173"/>
                    </a:lnTo>
                    <a:lnTo>
                      <a:pt x="986" y="105"/>
                    </a:lnTo>
                    <a:lnTo>
                      <a:pt x="808" y="28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7176b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8000" y="15840"/>
                <a:ext cx="838080" cy="787320"/>
              </a:xfrm>
              <a:custGeom>
                <a:avLst/>
                <a:gdLst/>
                <a:ahLst/>
                <a:rect l="l" t="t" r="r" b="b"/>
                <a:pathLst>
                  <a:path w="528" h="496">
                    <a:moveTo>
                      <a:pt x="335" y="56"/>
                    </a:moveTo>
                    <a:lnTo>
                      <a:pt x="293" y="46"/>
                    </a:lnTo>
                    <a:lnTo>
                      <a:pt x="288" y="0"/>
                    </a:lnTo>
                    <a:lnTo>
                      <a:pt x="238" y="0"/>
                    </a:lnTo>
                    <a:lnTo>
                      <a:pt x="232" y="46"/>
                    </a:lnTo>
                    <a:lnTo>
                      <a:pt x="198" y="58"/>
                    </a:lnTo>
                    <a:lnTo>
                      <a:pt x="146" y="0"/>
                    </a:lnTo>
                    <a:lnTo>
                      <a:pt x="114" y="14"/>
                    </a:lnTo>
                    <a:lnTo>
                      <a:pt x="147" y="84"/>
                    </a:lnTo>
                    <a:lnTo>
                      <a:pt x="124" y="107"/>
                    </a:lnTo>
                    <a:lnTo>
                      <a:pt x="50" y="81"/>
                    </a:lnTo>
                    <a:lnTo>
                      <a:pt x="32" y="109"/>
                    </a:lnTo>
                    <a:lnTo>
                      <a:pt x="90" y="159"/>
                    </a:lnTo>
                    <a:lnTo>
                      <a:pt x="80" y="197"/>
                    </a:lnTo>
                    <a:lnTo>
                      <a:pt x="2" y="202"/>
                    </a:lnTo>
                    <a:lnTo>
                      <a:pt x="0" y="244"/>
                    </a:lnTo>
                    <a:lnTo>
                      <a:pt x="80" y="256"/>
                    </a:lnTo>
                    <a:lnTo>
                      <a:pt x="88" y="292"/>
                    </a:lnTo>
                    <a:lnTo>
                      <a:pt x="29" y="345"/>
                    </a:lnTo>
                    <a:lnTo>
                      <a:pt x="50" y="378"/>
                    </a:lnTo>
                    <a:lnTo>
                      <a:pt x="116" y="347"/>
                    </a:lnTo>
                    <a:lnTo>
                      <a:pt x="141" y="372"/>
                    </a:lnTo>
                    <a:lnTo>
                      <a:pt x="107" y="435"/>
                    </a:lnTo>
                    <a:lnTo>
                      <a:pt x="139" y="462"/>
                    </a:lnTo>
                    <a:lnTo>
                      <a:pt x="198" y="404"/>
                    </a:lnTo>
                    <a:lnTo>
                      <a:pt x="232" y="416"/>
                    </a:lnTo>
                    <a:lnTo>
                      <a:pt x="240" y="494"/>
                    </a:lnTo>
                    <a:lnTo>
                      <a:pt x="292" y="496"/>
                    </a:lnTo>
                    <a:lnTo>
                      <a:pt x="297" y="414"/>
                    </a:lnTo>
                    <a:lnTo>
                      <a:pt x="341" y="403"/>
                    </a:lnTo>
                    <a:lnTo>
                      <a:pt x="393" y="460"/>
                    </a:lnTo>
                    <a:lnTo>
                      <a:pt x="427" y="439"/>
                    </a:lnTo>
                    <a:lnTo>
                      <a:pt x="393" y="370"/>
                    </a:lnTo>
                    <a:lnTo>
                      <a:pt x="416" y="341"/>
                    </a:lnTo>
                    <a:lnTo>
                      <a:pt x="484" y="374"/>
                    </a:lnTo>
                    <a:lnTo>
                      <a:pt x="505" y="338"/>
                    </a:lnTo>
                    <a:lnTo>
                      <a:pt x="442" y="292"/>
                    </a:lnTo>
                    <a:lnTo>
                      <a:pt x="450" y="252"/>
                    </a:lnTo>
                    <a:lnTo>
                      <a:pt x="528" y="244"/>
                    </a:lnTo>
                    <a:lnTo>
                      <a:pt x="526" y="204"/>
                    </a:lnTo>
                    <a:lnTo>
                      <a:pt x="448" y="193"/>
                    </a:lnTo>
                    <a:lnTo>
                      <a:pt x="440" y="162"/>
                    </a:lnTo>
                    <a:lnTo>
                      <a:pt x="503" y="119"/>
                    </a:lnTo>
                    <a:lnTo>
                      <a:pt x="482" y="82"/>
                    </a:lnTo>
                    <a:lnTo>
                      <a:pt x="412" y="111"/>
                    </a:lnTo>
                    <a:lnTo>
                      <a:pt x="389" y="88"/>
                    </a:lnTo>
                    <a:lnTo>
                      <a:pt x="425" y="21"/>
                    </a:lnTo>
                    <a:lnTo>
                      <a:pt x="391" y="0"/>
                    </a:lnTo>
                    <a:lnTo>
                      <a:pt x="335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fcab4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192320" y="353880"/>
                <a:ext cx="2266920" cy="227016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2532240" y="1270080"/>
                <a:ext cx="3670200" cy="36716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240" y="4797360"/>
                <a:ext cx="3417840" cy="2097000"/>
              </a:xfrm>
              <a:custGeom>
                <a:avLst/>
                <a:gdLst/>
                <a:ahLst/>
                <a:rect l="l" t="t" r="r" b="b"/>
                <a:pathLst>
                  <a:path w="2153" h="1321">
                    <a:moveTo>
                      <a:pt x="1368" y="358"/>
                    </a:moveTo>
                    <a:lnTo>
                      <a:pt x="1197" y="318"/>
                    </a:lnTo>
                    <a:lnTo>
                      <a:pt x="1173" y="0"/>
                    </a:lnTo>
                    <a:lnTo>
                      <a:pt x="964" y="16"/>
                    </a:lnTo>
                    <a:lnTo>
                      <a:pt x="948" y="318"/>
                    </a:lnTo>
                    <a:lnTo>
                      <a:pt x="808" y="366"/>
                    </a:lnTo>
                    <a:lnTo>
                      <a:pt x="606" y="109"/>
                    </a:lnTo>
                    <a:lnTo>
                      <a:pt x="467" y="187"/>
                    </a:lnTo>
                    <a:lnTo>
                      <a:pt x="599" y="474"/>
                    </a:lnTo>
                    <a:lnTo>
                      <a:pt x="506" y="568"/>
                    </a:lnTo>
                    <a:lnTo>
                      <a:pt x="202" y="459"/>
                    </a:lnTo>
                    <a:lnTo>
                      <a:pt x="132" y="576"/>
                    </a:lnTo>
                    <a:lnTo>
                      <a:pt x="365" y="778"/>
                    </a:lnTo>
                    <a:lnTo>
                      <a:pt x="327" y="933"/>
                    </a:lnTo>
                    <a:lnTo>
                      <a:pt x="7" y="956"/>
                    </a:lnTo>
                    <a:lnTo>
                      <a:pt x="0" y="1128"/>
                    </a:lnTo>
                    <a:lnTo>
                      <a:pt x="327" y="1174"/>
                    </a:lnTo>
                    <a:lnTo>
                      <a:pt x="358" y="1321"/>
                    </a:lnTo>
                    <a:lnTo>
                      <a:pt x="1804" y="1321"/>
                    </a:lnTo>
                    <a:lnTo>
                      <a:pt x="1835" y="1158"/>
                    </a:lnTo>
                    <a:lnTo>
                      <a:pt x="2153" y="1128"/>
                    </a:lnTo>
                    <a:lnTo>
                      <a:pt x="2146" y="964"/>
                    </a:lnTo>
                    <a:lnTo>
                      <a:pt x="1827" y="917"/>
                    </a:lnTo>
                    <a:lnTo>
                      <a:pt x="1795" y="793"/>
                    </a:lnTo>
                    <a:lnTo>
                      <a:pt x="2052" y="615"/>
                    </a:lnTo>
                    <a:lnTo>
                      <a:pt x="1967" y="467"/>
                    </a:lnTo>
                    <a:lnTo>
                      <a:pt x="1679" y="583"/>
                    </a:lnTo>
                    <a:lnTo>
                      <a:pt x="1586" y="490"/>
                    </a:lnTo>
                    <a:lnTo>
                      <a:pt x="1733" y="218"/>
                    </a:lnTo>
                    <a:lnTo>
                      <a:pt x="1593" y="132"/>
                    </a:lnTo>
                    <a:lnTo>
                      <a:pt x="1368" y="358"/>
                    </a:lnTo>
                    <a:close/>
                  </a:path>
                </a:pathLst>
              </a:cu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4240" y="4425840"/>
                <a:ext cx="2263680" cy="22640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646600" y="487440"/>
                <a:ext cx="2928960" cy="293040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147080" y="2556000"/>
                <a:ext cx="2008080" cy="3997080"/>
              </a:xfrm>
              <a:custGeom>
                <a:avLst/>
                <a:gdLst/>
                <a:ahLst/>
                <a:rect l="l" t="t" r="r" b="b"/>
                <a:pathLst>
                  <a:path w="1265" h="2518">
                    <a:moveTo>
                      <a:pt x="1265" y="0"/>
                    </a:moveTo>
                    <a:lnTo>
                      <a:pt x="1128" y="18"/>
                    </a:lnTo>
                    <a:lnTo>
                      <a:pt x="1110" y="372"/>
                    </a:lnTo>
                    <a:lnTo>
                      <a:pt x="946" y="428"/>
                    </a:lnTo>
                    <a:lnTo>
                      <a:pt x="710" y="127"/>
                    </a:lnTo>
                    <a:lnTo>
                      <a:pt x="546" y="219"/>
                    </a:lnTo>
                    <a:lnTo>
                      <a:pt x="701" y="555"/>
                    </a:lnTo>
                    <a:lnTo>
                      <a:pt x="592" y="665"/>
                    </a:lnTo>
                    <a:lnTo>
                      <a:pt x="237" y="537"/>
                    </a:lnTo>
                    <a:lnTo>
                      <a:pt x="155" y="674"/>
                    </a:lnTo>
                    <a:lnTo>
                      <a:pt x="427" y="911"/>
                    </a:lnTo>
                    <a:lnTo>
                      <a:pt x="383" y="1093"/>
                    </a:lnTo>
                    <a:lnTo>
                      <a:pt x="9" y="1121"/>
                    </a:lnTo>
                    <a:lnTo>
                      <a:pt x="0" y="1322"/>
                    </a:lnTo>
                    <a:lnTo>
                      <a:pt x="383" y="1376"/>
                    </a:lnTo>
                    <a:lnTo>
                      <a:pt x="419" y="1549"/>
                    </a:lnTo>
                    <a:lnTo>
                      <a:pt x="136" y="1804"/>
                    </a:lnTo>
                    <a:lnTo>
                      <a:pt x="237" y="1959"/>
                    </a:lnTo>
                    <a:lnTo>
                      <a:pt x="555" y="1813"/>
                    </a:lnTo>
                    <a:lnTo>
                      <a:pt x="674" y="1932"/>
                    </a:lnTo>
                    <a:lnTo>
                      <a:pt x="509" y="2232"/>
                    </a:lnTo>
                    <a:lnTo>
                      <a:pt x="664" y="2360"/>
                    </a:lnTo>
                    <a:lnTo>
                      <a:pt x="946" y="2087"/>
                    </a:lnTo>
                    <a:lnTo>
                      <a:pt x="1110" y="2142"/>
                    </a:lnTo>
                    <a:lnTo>
                      <a:pt x="1147" y="2515"/>
                    </a:lnTo>
                    <a:lnTo>
                      <a:pt x="1265" y="2518"/>
                    </a:lnTo>
                    <a:lnTo>
                      <a:pt x="12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5bad"/>
                  </a:gs>
                  <a:gs pos="100000">
                    <a:srgbClr val="000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pic>
          <p:nvPicPr>
            <p:cNvPr id="10" name="" descr="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C200-67E2-43FB-8AC3-0487794557E8}" type="slidenum"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53" name=""/>
            <p:cNvGrpSpPr/>
            <p:nvPr/>
          </p:nvGrpSpPr>
          <p:grpSpPr>
            <a:xfrm>
              <a:off x="-11160" y="-360"/>
              <a:ext cx="9166320" cy="6894720"/>
              <a:chOff x="-11160" y="-360"/>
              <a:chExt cx="9166320" cy="6894720"/>
            </a:xfrm>
          </p:grpSpPr>
          <p:sp>
            <p:nvSpPr>
              <p:cNvPr id="54" name=""/>
              <p:cNvSpPr/>
              <p:nvPr/>
            </p:nvSpPr>
            <p:spPr>
              <a:xfrm>
                <a:off x="-11160" y="1836720"/>
                <a:ext cx="2268720" cy="2709720"/>
              </a:xfrm>
              <a:custGeom>
                <a:avLst/>
                <a:gdLst/>
                <a:ahLst/>
                <a:rect l="l" t="t" r="r" b="b"/>
                <a:pathLst>
                  <a:path w="1429" h="1707">
                    <a:moveTo>
                      <a:pt x="808" y="283"/>
                    </a:moveTo>
                    <a:lnTo>
                      <a:pt x="673" y="252"/>
                    </a:lnTo>
                    <a:lnTo>
                      <a:pt x="654" y="0"/>
                    </a:lnTo>
                    <a:lnTo>
                      <a:pt x="488" y="13"/>
                    </a:lnTo>
                    <a:lnTo>
                      <a:pt x="476" y="252"/>
                    </a:lnTo>
                    <a:lnTo>
                      <a:pt x="365" y="290"/>
                    </a:lnTo>
                    <a:lnTo>
                      <a:pt x="206" y="86"/>
                    </a:lnTo>
                    <a:lnTo>
                      <a:pt x="95" y="148"/>
                    </a:lnTo>
                    <a:lnTo>
                      <a:pt x="200" y="376"/>
                    </a:lnTo>
                    <a:lnTo>
                      <a:pt x="126" y="450"/>
                    </a:lnTo>
                    <a:lnTo>
                      <a:pt x="0" y="423"/>
                    </a:lnTo>
                    <a:lnTo>
                      <a:pt x="0" y="1273"/>
                    </a:lnTo>
                    <a:lnTo>
                      <a:pt x="101" y="1226"/>
                    </a:lnTo>
                    <a:lnTo>
                      <a:pt x="181" y="1306"/>
                    </a:lnTo>
                    <a:lnTo>
                      <a:pt x="70" y="1509"/>
                    </a:lnTo>
                    <a:lnTo>
                      <a:pt x="175" y="1596"/>
                    </a:lnTo>
                    <a:lnTo>
                      <a:pt x="365" y="1411"/>
                    </a:lnTo>
                    <a:lnTo>
                      <a:pt x="476" y="1448"/>
                    </a:lnTo>
                    <a:lnTo>
                      <a:pt x="501" y="1700"/>
                    </a:lnTo>
                    <a:lnTo>
                      <a:pt x="667" y="1707"/>
                    </a:lnTo>
                    <a:lnTo>
                      <a:pt x="685" y="1442"/>
                    </a:lnTo>
                    <a:lnTo>
                      <a:pt x="826" y="1405"/>
                    </a:lnTo>
                    <a:lnTo>
                      <a:pt x="993" y="1590"/>
                    </a:lnTo>
                    <a:lnTo>
                      <a:pt x="1103" y="1522"/>
                    </a:lnTo>
                    <a:lnTo>
                      <a:pt x="993" y="1300"/>
                    </a:lnTo>
                    <a:lnTo>
                      <a:pt x="1067" y="1207"/>
                    </a:lnTo>
                    <a:lnTo>
                      <a:pt x="1288" y="1312"/>
                    </a:lnTo>
                    <a:lnTo>
                      <a:pt x="1355" y="1196"/>
                    </a:lnTo>
                    <a:lnTo>
                      <a:pt x="1153" y="1047"/>
                    </a:lnTo>
                    <a:lnTo>
                      <a:pt x="1177" y="918"/>
                    </a:lnTo>
                    <a:lnTo>
                      <a:pt x="1429" y="894"/>
                    </a:lnTo>
                    <a:lnTo>
                      <a:pt x="1423" y="764"/>
                    </a:lnTo>
                    <a:lnTo>
                      <a:pt x="1171" y="727"/>
                    </a:lnTo>
                    <a:lnTo>
                      <a:pt x="1146" y="629"/>
                    </a:lnTo>
                    <a:lnTo>
                      <a:pt x="1349" y="487"/>
                    </a:lnTo>
                    <a:lnTo>
                      <a:pt x="1282" y="370"/>
                    </a:lnTo>
                    <a:lnTo>
                      <a:pt x="1054" y="462"/>
                    </a:lnTo>
                    <a:lnTo>
                      <a:pt x="980" y="388"/>
                    </a:lnTo>
                    <a:lnTo>
                      <a:pt x="1097" y="173"/>
                    </a:lnTo>
                    <a:lnTo>
                      <a:pt x="986" y="105"/>
                    </a:lnTo>
                    <a:lnTo>
                      <a:pt x="808" y="28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7176b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8000" y="15840"/>
                <a:ext cx="838080" cy="787320"/>
              </a:xfrm>
              <a:custGeom>
                <a:avLst/>
                <a:gdLst/>
                <a:ahLst/>
                <a:rect l="l" t="t" r="r" b="b"/>
                <a:pathLst>
                  <a:path w="528" h="496">
                    <a:moveTo>
                      <a:pt x="335" y="56"/>
                    </a:moveTo>
                    <a:lnTo>
                      <a:pt x="293" y="46"/>
                    </a:lnTo>
                    <a:lnTo>
                      <a:pt x="288" y="0"/>
                    </a:lnTo>
                    <a:lnTo>
                      <a:pt x="238" y="0"/>
                    </a:lnTo>
                    <a:lnTo>
                      <a:pt x="232" y="46"/>
                    </a:lnTo>
                    <a:lnTo>
                      <a:pt x="198" y="58"/>
                    </a:lnTo>
                    <a:lnTo>
                      <a:pt x="146" y="0"/>
                    </a:lnTo>
                    <a:lnTo>
                      <a:pt x="114" y="14"/>
                    </a:lnTo>
                    <a:lnTo>
                      <a:pt x="147" y="84"/>
                    </a:lnTo>
                    <a:lnTo>
                      <a:pt x="124" y="107"/>
                    </a:lnTo>
                    <a:lnTo>
                      <a:pt x="50" y="81"/>
                    </a:lnTo>
                    <a:lnTo>
                      <a:pt x="32" y="109"/>
                    </a:lnTo>
                    <a:lnTo>
                      <a:pt x="90" y="159"/>
                    </a:lnTo>
                    <a:lnTo>
                      <a:pt x="80" y="197"/>
                    </a:lnTo>
                    <a:lnTo>
                      <a:pt x="2" y="202"/>
                    </a:lnTo>
                    <a:lnTo>
                      <a:pt x="0" y="244"/>
                    </a:lnTo>
                    <a:lnTo>
                      <a:pt x="80" y="256"/>
                    </a:lnTo>
                    <a:lnTo>
                      <a:pt x="88" y="292"/>
                    </a:lnTo>
                    <a:lnTo>
                      <a:pt x="29" y="345"/>
                    </a:lnTo>
                    <a:lnTo>
                      <a:pt x="50" y="378"/>
                    </a:lnTo>
                    <a:lnTo>
                      <a:pt x="116" y="347"/>
                    </a:lnTo>
                    <a:lnTo>
                      <a:pt x="141" y="372"/>
                    </a:lnTo>
                    <a:lnTo>
                      <a:pt x="107" y="435"/>
                    </a:lnTo>
                    <a:lnTo>
                      <a:pt x="139" y="462"/>
                    </a:lnTo>
                    <a:lnTo>
                      <a:pt x="198" y="404"/>
                    </a:lnTo>
                    <a:lnTo>
                      <a:pt x="232" y="416"/>
                    </a:lnTo>
                    <a:lnTo>
                      <a:pt x="240" y="494"/>
                    </a:lnTo>
                    <a:lnTo>
                      <a:pt x="292" y="496"/>
                    </a:lnTo>
                    <a:lnTo>
                      <a:pt x="297" y="414"/>
                    </a:lnTo>
                    <a:lnTo>
                      <a:pt x="341" y="403"/>
                    </a:lnTo>
                    <a:lnTo>
                      <a:pt x="393" y="460"/>
                    </a:lnTo>
                    <a:lnTo>
                      <a:pt x="427" y="439"/>
                    </a:lnTo>
                    <a:lnTo>
                      <a:pt x="393" y="370"/>
                    </a:lnTo>
                    <a:lnTo>
                      <a:pt x="416" y="341"/>
                    </a:lnTo>
                    <a:lnTo>
                      <a:pt x="484" y="374"/>
                    </a:lnTo>
                    <a:lnTo>
                      <a:pt x="505" y="338"/>
                    </a:lnTo>
                    <a:lnTo>
                      <a:pt x="442" y="292"/>
                    </a:lnTo>
                    <a:lnTo>
                      <a:pt x="450" y="252"/>
                    </a:lnTo>
                    <a:lnTo>
                      <a:pt x="528" y="244"/>
                    </a:lnTo>
                    <a:lnTo>
                      <a:pt x="526" y="204"/>
                    </a:lnTo>
                    <a:lnTo>
                      <a:pt x="448" y="193"/>
                    </a:lnTo>
                    <a:lnTo>
                      <a:pt x="440" y="162"/>
                    </a:lnTo>
                    <a:lnTo>
                      <a:pt x="503" y="119"/>
                    </a:lnTo>
                    <a:lnTo>
                      <a:pt x="482" y="82"/>
                    </a:lnTo>
                    <a:lnTo>
                      <a:pt x="412" y="111"/>
                    </a:lnTo>
                    <a:lnTo>
                      <a:pt x="389" y="88"/>
                    </a:lnTo>
                    <a:lnTo>
                      <a:pt x="425" y="21"/>
                    </a:lnTo>
                    <a:lnTo>
                      <a:pt x="391" y="0"/>
                    </a:lnTo>
                    <a:lnTo>
                      <a:pt x="335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fcab4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92320" y="353880"/>
                <a:ext cx="2266920" cy="227016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32240" y="1270080"/>
                <a:ext cx="3670200" cy="36716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40" y="4797360"/>
                <a:ext cx="3417840" cy="2097000"/>
              </a:xfrm>
              <a:custGeom>
                <a:avLst/>
                <a:gdLst/>
                <a:ahLst/>
                <a:rect l="l" t="t" r="r" b="b"/>
                <a:pathLst>
                  <a:path w="2153" h="1321">
                    <a:moveTo>
                      <a:pt x="1368" y="358"/>
                    </a:moveTo>
                    <a:lnTo>
                      <a:pt x="1197" y="318"/>
                    </a:lnTo>
                    <a:lnTo>
                      <a:pt x="1173" y="0"/>
                    </a:lnTo>
                    <a:lnTo>
                      <a:pt x="964" y="16"/>
                    </a:lnTo>
                    <a:lnTo>
                      <a:pt x="948" y="318"/>
                    </a:lnTo>
                    <a:lnTo>
                      <a:pt x="808" y="366"/>
                    </a:lnTo>
                    <a:lnTo>
                      <a:pt x="606" y="109"/>
                    </a:lnTo>
                    <a:lnTo>
                      <a:pt x="467" y="187"/>
                    </a:lnTo>
                    <a:lnTo>
                      <a:pt x="599" y="474"/>
                    </a:lnTo>
                    <a:lnTo>
                      <a:pt x="506" y="568"/>
                    </a:lnTo>
                    <a:lnTo>
                      <a:pt x="202" y="459"/>
                    </a:lnTo>
                    <a:lnTo>
                      <a:pt x="132" y="576"/>
                    </a:lnTo>
                    <a:lnTo>
                      <a:pt x="365" y="778"/>
                    </a:lnTo>
                    <a:lnTo>
                      <a:pt x="327" y="933"/>
                    </a:lnTo>
                    <a:lnTo>
                      <a:pt x="7" y="956"/>
                    </a:lnTo>
                    <a:lnTo>
                      <a:pt x="0" y="1128"/>
                    </a:lnTo>
                    <a:lnTo>
                      <a:pt x="327" y="1174"/>
                    </a:lnTo>
                    <a:lnTo>
                      <a:pt x="358" y="1321"/>
                    </a:lnTo>
                    <a:lnTo>
                      <a:pt x="1804" y="1321"/>
                    </a:lnTo>
                    <a:lnTo>
                      <a:pt x="1835" y="1158"/>
                    </a:lnTo>
                    <a:lnTo>
                      <a:pt x="2153" y="1128"/>
                    </a:lnTo>
                    <a:lnTo>
                      <a:pt x="2146" y="964"/>
                    </a:lnTo>
                    <a:lnTo>
                      <a:pt x="1827" y="917"/>
                    </a:lnTo>
                    <a:lnTo>
                      <a:pt x="1795" y="793"/>
                    </a:lnTo>
                    <a:lnTo>
                      <a:pt x="2052" y="615"/>
                    </a:lnTo>
                    <a:lnTo>
                      <a:pt x="1967" y="467"/>
                    </a:lnTo>
                    <a:lnTo>
                      <a:pt x="1679" y="583"/>
                    </a:lnTo>
                    <a:lnTo>
                      <a:pt x="1586" y="490"/>
                    </a:lnTo>
                    <a:lnTo>
                      <a:pt x="1733" y="218"/>
                    </a:lnTo>
                    <a:lnTo>
                      <a:pt x="1593" y="132"/>
                    </a:lnTo>
                    <a:lnTo>
                      <a:pt x="1368" y="358"/>
                    </a:lnTo>
                    <a:close/>
                  </a:path>
                </a:pathLst>
              </a:cu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494240" y="4425840"/>
                <a:ext cx="2263680" cy="22640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646600" y="487440"/>
                <a:ext cx="2928960" cy="293040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47080" y="2556000"/>
                <a:ext cx="2008080" cy="3997080"/>
              </a:xfrm>
              <a:custGeom>
                <a:avLst/>
                <a:gdLst/>
                <a:ahLst/>
                <a:rect l="l" t="t" r="r" b="b"/>
                <a:pathLst>
                  <a:path w="1265" h="2518">
                    <a:moveTo>
                      <a:pt x="1265" y="0"/>
                    </a:moveTo>
                    <a:lnTo>
                      <a:pt x="1128" y="18"/>
                    </a:lnTo>
                    <a:lnTo>
                      <a:pt x="1110" y="372"/>
                    </a:lnTo>
                    <a:lnTo>
                      <a:pt x="946" y="428"/>
                    </a:lnTo>
                    <a:lnTo>
                      <a:pt x="710" y="127"/>
                    </a:lnTo>
                    <a:lnTo>
                      <a:pt x="546" y="219"/>
                    </a:lnTo>
                    <a:lnTo>
                      <a:pt x="701" y="555"/>
                    </a:lnTo>
                    <a:lnTo>
                      <a:pt x="592" y="665"/>
                    </a:lnTo>
                    <a:lnTo>
                      <a:pt x="237" y="537"/>
                    </a:lnTo>
                    <a:lnTo>
                      <a:pt x="155" y="674"/>
                    </a:lnTo>
                    <a:lnTo>
                      <a:pt x="427" y="911"/>
                    </a:lnTo>
                    <a:lnTo>
                      <a:pt x="383" y="1093"/>
                    </a:lnTo>
                    <a:lnTo>
                      <a:pt x="9" y="1121"/>
                    </a:lnTo>
                    <a:lnTo>
                      <a:pt x="0" y="1322"/>
                    </a:lnTo>
                    <a:lnTo>
                      <a:pt x="383" y="1376"/>
                    </a:lnTo>
                    <a:lnTo>
                      <a:pt x="419" y="1549"/>
                    </a:lnTo>
                    <a:lnTo>
                      <a:pt x="136" y="1804"/>
                    </a:lnTo>
                    <a:lnTo>
                      <a:pt x="237" y="1959"/>
                    </a:lnTo>
                    <a:lnTo>
                      <a:pt x="555" y="1813"/>
                    </a:lnTo>
                    <a:lnTo>
                      <a:pt x="674" y="1932"/>
                    </a:lnTo>
                    <a:lnTo>
                      <a:pt x="509" y="2232"/>
                    </a:lnTo>
                    <a:lnTo>
                      <a:pt x="664" y="2360"/>
                    </a:lnTo>
                    <a:lnTo>
                      <a:pt x="946" y="2087"/>
                    </a:lnTo>
                    <a:lnTo>
                      <a:pt x="1110" y="2142"/>
                    </a:lnTo>
                    <a:lnTo>
                      <a:pt x="1147" y="2515"/>
                    </a:lnTo>
                    <a:lnTo>
                      <a:pt x="1265" y="2518"/>
                    </a:lnTo>
                    <a:lnTo>
                      <a:pt x="12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5bad"/>
                  </a:gs>
                  <a:gs pos="100000">
                    <a:srgbClr val="000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977280" y="-853200"/>
                <a:ext cx="1722600" cy="3429000"/>
              </a:xfrm>
              <a:custGeom>
                <a:avLst/>
                <a:gdLst/>
                <a:ahLst/>
                <a:rect l="l" t="t" r="r" b="b"/>
                <a:pathLst>
                  <a:path w="1265" h="2518">
                    <a:moveTo>
                      <a:pt x="1265" y="0"/>
                    </a:moveTo>
                    <a:lnTo>
                      <a:pt x="1128" y="18"/>
                    </a:lnTo>
                    <a:lnTo>
                      <a:pt x="1110" y="372"/>
                    </a:lnTo>
                    <a:lnTo>
                      <a:pt x="946" y="428"/>
                    </a:lnTo>
                    <a:lnTo>
                      <a:pt x="710" y="127"/>
                    </a:lnTo>
                    <a:lnTo>
                      <a:pt x="546" y="219"/>
                    </a:lnTo>
                    <a:lnTo>
                      <a:pt x="701" y="555"/>
                    </a:lnTo>
                    <a:lnTo>
                      <a:pt x="592" y="665"/>
                    </a:lnTo>
                    <a:lnTo>
                      <a:pt x="237" y="537"/>
                    </a:lnTo>
                    <a:lnTo>
                      <a:pt x="155" y="674"/>
                    </a:lnTo>
                    <a:lnTo>
                      <a:pt x="427" y="911"/>
                    </a:lnTo>
                    <a:lnTo>
                      <a:pt x="383" y="1093"/>
                    </a:lnTo>
                    <a:lnTo>
                      <a:pt x="9" y="1121"/>
                    </a:lnTo>
                    <a:lnTo>
                      <a:pt x="0" y="1322"/>
                    </a:lnTo>
                    <a:lnTo>
                      <a:pt x="383" y="1376"/>
                    </a:lnTo>
                    <a:lnTo>
                      <a:pt x="419" y="1549"/>
                    </a:lnTo>
                    <a:lnTo>
                      <a:pt x="136" y="1804"/>
                    </a:lnTo>
                    <a:lnTo>
                      <a:pt x="237" y="1959"/>
                    </a:lnTo>
                    <a:lnTo>
                      <a:pt x="555" y="1813"/>
                    </a:lnTo>
                    <a:lnTo>
                      <a:pt x="674" y="1932"/>
                    </a:lnTo>
                    <a:lnTo>
                      <a:pt x="509" y="2232"/>
                    </a:lnTo>
                    <a:lnTo>
                      <a:pt x="664" y="2360"/>
                    </a:lnTo>
                    <a:lnTo>
                      <a:pt x="946" y="2087"/>
                    </a:lnTo>
                    <a:lnTo>
                      <a:pt x="1110" y="2142"/>
                    </a:lnTo>
                    <a:lnTo>
                      <a:pt x="1147" y="2515"/>
                    </a:lnTo>
                    <a:lnTo>
                      <a:pt x="1265" y="2518"/>
                    </a:lnTo>
                    <a:lnTo>
                      <a:pt x="12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5bad"/>
                  </a:gs>
                  <a:gs pos="100000">
                    <a:srgbClr val="000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320A-9A6A-45B8-83DD-CE5B5DD347BE}" type="slidenum"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45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7176bb"/>
              </a:buClr>
              <a:buSzPct val="45000"/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Money and McKinley Pages 633-638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lection of 1896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Gold vs. Sil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ross of Gold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nd of Silverite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nd of Populism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>
            <a:lum contrast="12000"/>
          </a:blip>
          <a:srcRect l="0" t="0" r="1902" b="5719"/>
          <a:stretch/>
        </p:blipFill>
        <p:spPr>
          <a:xfrm>
            <a:off x="1589040" y="1143000"/>
            <a:ext cx="4484880" cy="5257800"/>
          </a:xfrm>
          <a:prstGeom prst="rect">
            <a:avLst/>
          </a:prstGeom>
          <a:ln w="9360">
            <a:solidFill>
              <a:srgbClr val="787878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6324480" y="1390680"/>
            <a:ext cx="2286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18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Comic Sans MS"/>
              </a:rPr>
              <a:t>Into Which Box Will the Voter</a:t>
            </a:r>
            <a:br>
              <a:rPr sz="3200"/>
            </a:br>
            <a:r>
              <a:rPr b="1" i="1" lang="en-US" sz="3200" spc="-1" strike="noStrike">
                <a:solidFill>
                  <a:srgbClr val="eaeaea"/>
                </a:solidFill>
                <a:latin typeface="Comic Sans MS"/>
              </a:rPr>
              <a:t>of ’96 Place His Ballot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00200" y="152280"/>
            <a:ext cx="6019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18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mic Sans MS"/>
              </a:rPr>
              <a:t>1896 Election Result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0880" y="1828800"/>
            <a:ext cx="8448840" cy="4538520"/>
          </a:xfrm>
          <a:prstGeom prst="rect">
            <a:avLst/>
          </a:prstGeom>
          <a:ln w="9360">
            <a:solidFill>
              <a:srgbClr val="7878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00200" y="304920"/>
            <a:ext cx="6019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69b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omic Sans MS"/>
              </a:rPr>
              <a:t>Why Did Bryan Lose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874880"/>
            <a:ext cx="746784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2001"/>
              </a:spcBef>
              <a:buClr>
                <a:srgbClr val="c18b0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His focus on silver undermined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efforts to build bridges to urban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voter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2001"/>
              </a:spcBef>
              <a:buClr>
                <a:srgbClr val="c18b0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He did not form alliances with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other group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2001"/>
              </a:spcBef>
              <a:buClr>
                <a:srgbClr val="c18b0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McKinley’s campaign was well-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organized and highly fund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00200" y="228600"/>
            <a:ext cx="60199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18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Gold Triumphs Over Silver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4270320" cy="472428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5410080" y="1981080"/>
            <a:ext cx="33530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c18b0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1900 </a:t>
            </a:r>
            <a:r>
              <a:rPr b="1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Gold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Standard Ac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c18b0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confirmed the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nation’s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commitment to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the gold standar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c18b0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A victory for the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forces of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conservatism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0200" y="304920"/>
            <a:ext cx="60199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69b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mic Sans MS"/>
              </a:rPr>
              <a:t>Why Did Populism Decline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782720"/>
            <a:ext cx="7696080" cy="46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spcBef>
                <a:spcPts val="1687"/>
              </a:spcBef>
              <a:buClr>
                <a:srgbClr val="c18b05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Comic Sans MS"/>
              </a:rPr>
              <a:t>The economy experienced rapid change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1687"/>
              </a:spcBef>
              <a:buClr>
                <a:srgbClr val="c18b05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Comic Sans MS"/>
              </a:rPr>
              <a:t>The era of small producers and </a:t>
            </a:r>
            <a:br>
              <a:rPr sz="2700"/>
            </a:br>
            <a:r>
              <a:rPr b="1" lang="en-US" sz="2700" spc="-1" strike="noStrike">
                <a:solidFill>
                  <a:srgbClr val="eaeaea"/>
                </a:solidFill>
                <a:latin typeface="Comic Sans MS"/>
              </a:rPr>
              <a:t>farmers was fading away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1687"/>
              </a:spcBef>
              <a:buClr>
                <a:srgbClr val="c18b05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Comic Sans MS"/>
              </a:rPr>
              <a:t>Race divided the Populist Party, </a:t>
            </a:r>
            <a:br>
              <a:rPr sz="2700"/>
            </a:br>
            <a:r>
              <a:rPr b="1" lang="en-US" sz="2700" spc="-1" strike="noStrike">
                <a:solidFill>
                  <a:srgbClr val="eaeaea"/>
                </a:solidFill>
                <a:latin typeface="Comic Sans MS"/>
              </a:rPr>
              <a:t>especially in the South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1687"/>
              </a:spcBef>
              <a:buClr>
                <a:srgbClr val="c18b05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Comic Sans MS"/>
              </a:rPr>
              <a:t>The Populists were not able to break</a:t>
            </a:r>
            <a:br>
              <a:rPr sz="2700"/>
            </a:br>
            <a:r>
              <a:rPr b="1" lang="en-US" sz="2700" spc="-1" strike="noStrike">
                <a:solidFill>
                  <a:srgbClr val="eaeaea"/>
                </a:solidFill>
                <a:latin typeface="Comic Sans MS"/>
              </a:rPr>
              <a:t>existing party loyalties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1687"/>
              </a:spcBef>
              <a:buClr>
                <a:srgbClr val="c18b05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Comic Sans MS"/>
              </a:rPr>
              <a:t>Most of their agenda was co-opted by</a:t>
            </a:r>
            <a:br>
              <a:rPr sz="2700"/>
            </a:br>
            <a:r>
              <a:rPr b="1" lang="en-US" sz="2700" spc="-1" strike="noStrike">
                <a:solidFill>
                  <a:srgbClr val="eaeaea"/>
                </a:solidFill>
                <a:latin typeface="Comic Sans MS"/>
              </a:rPr>
              <a:t>the Democratic Party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3880" y="380880"/>
            <a:ext cx="6172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18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omic Sans MS"/>
              </a:rPr>
              <a:t>Gold / Silver Bug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Comic Sans MS"/>
              </a:rPr>
              <a:t>Campaign Pin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05120" y="2438280"/>
            <a:ext cx="52578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76320"/>
            <a:ext cx="6248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18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omic Sans MS"/>
              </a:rPr>
              <a:t>William Jennings Bryan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Comic Sans MS"/>
              </a:rPr>
              <a:t>(1860-1925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735360" cy="4800600"/>
          </a:xfrm>
          <a:prstGeom prst="rect">
            <a:avLst/>
          </a:prstGeom>
          <a:ln w="9360">
            <a:solidFill>
              <a:srgbClr val="787878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819520" y="620244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Comic Sans MS"/>
              </a:rPr>
              <a:t>The “Great Commoner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80880"/>
            <a:ext cx="6248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18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omic Sans MS"/>
              </a:rPr>
              <a:t>William Jennings Bry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contrast="12000"/>
          </a:blip>
          <a:srcRect l="10171" t="0" r="0" b="0"/>
          <a:stretch/>
        </p:blipFill>
        <p:spPr>
          <a:xfrm>
            <a:off x="457200" y="1981080"/>
            <a:ext cx="4495680" cy="3502080"/>
          </a:xfrm>
          <a:prstGeom prst="rect">
            <a:avLst/>
          </a:prstGeom>
          <a:ln w="9360">
            <a:solidFill>
              <a:srgbClr val="787878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5105520" y="1784880"/>
            <a:ext cx="3809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d189"/>
                </a:solidFill>
                <a:latin typeface="Comic Sans MS"/>
              </a:rPr>
              <a:t>Prairie avenger, </a:t>
            </a:r>
            <a:br>
              <a:rPr sz="2400"/>
            </a:br>
            <a:r>
              <a:rPr b="1" i="1" lang="en-US" sz="2400" spc="-1" strike="noStrike">
                <a:solidFill>
                  <a:srgbClr val="ebd189"/>
                </a:solidFill>
                <a:latin typeface="Comic Sans MS"/>
              </a:rPr>
              <a:t>    mountain lion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d189"/>
                </a:solidFill>
                <a:latin typeface="Comic Sans MS"/>
              </a:rPr>
              <a:t>Bryan, Bryan, Bryan, </a:t>
            </a:r>
            <a:br>
              <a:rPr sz="2400"/>
            </a:br>
            <a:r>
              <a:rPr b="1" i="1" lang="en-US" sz="2400" spc="-1" strike="noStrike">
                <a:solidFill>
                  <a:srgbClr val="ebd189"/>
                </a:solidFill>
                <a:latin typeface="Comic Sans MS"/>
              </a:rPr>
              <a:t>    Bryan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d189"/>
                </a:solidFill>
                <a:latin typeface="Comic Sans MS"/>
              </a:rPr>
              <a:t>Gigantic troubadour, </a:t>
            </a:r>
            <a:br>
              <a:rPr sz="2400"/>
            </a:br>
            <a:r>
              <a:rPr b="1" i="1" lang="en-US" sz="2400" spc="-1" strike="noStrike">
                <a:solidFill>
                  <a:srgbClr val="ebd189"/>
                </a:solidFill>
                <a:latin typeface="Comic Sans MS"/>
              </a:rPr>
              <a:t>    speaking like a siege </a:t>
            </a:r>
            <a:br>
              <a:rPr sz="2400"/>
            </a:br>
            <a:r>
              <a:rPr b="1" i="1" lang="en-US" sz="2400" spc="-1" strike="noStrike">
                <a:solidFill>
                  <a:srgbClr val="ebd189"/>
                </a:solidFill>
                <a:latin typeface="Comic Sans MS"/>
              </a:rPr>
              <a:t>    gun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d189"/>
                </a:solidFill>
                <a:latin typeface="Comic Sans MS"/>
              </a:rPr>
              <a:t>Smashing Plymouth Rock </a:t>
            </a:r>
            <a:br>
              <a:rPr sz="2400"/>
            </a:br>
            <a:r>
              <a:rPr b="1" i="1" lang="en-US" sz="2400" spc="-1" strike="noStrike">
                <a:solidFill>
                  <a:srgbClr val="ebd189"/>
                </a:solidFill>
                <a:latin typeface="Comic Sans MS"/>
              </a:rPr>
              <a:t>    with his boulders</a:t>
            </a:r>
            <a:br>
              <a:rPr sz="2400"/>
            </a:br>
            <a:r>
              <a:rPr b="1" i="1" lang="en-US" sz="2400" spc="-1" strike="noStrike">
                <a:solidFill>
                  <a:srgbClr val="ebd189"/>
                </a:solidFill>
                <a:latin typeface="Comic Sans MS"/>
              </a:rPr>
              <a:t>    from the Wes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55627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18b0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Revivalist style of orator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76320"/>
            <a:ext cx="6172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18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omic Sans MS"/>
              </a:rPr>
              <a:t>Bryant’s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Comic Sans MS"/>
              </a:rPr>
              <a:t>“Cross of Gold” Speech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2118240"/>
            <a:ext cx="35812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00"/>
                </a:solidFill>
                <a:latin typeface="Comic Sans MS"/>
              </a:rPr>
              <a:t>You shall not press down upon the brow of labor this crown of thorns; you shall not crucify mankind upon a cross of gold!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17720" y="1752480"/>
            <a:ext cx="3630600" cy="472464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3880" y="304920"/>
            <a:ext cx="6172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18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mic Sans MS"/>
              </a:rPr>
              <a:t>William McKinley </a:t>
            </a:r>
            <a:r>
              <a:rPr b="1" lang="en-US" sz="3600" spc="-1" strike="noStrike">
                <a:solidFill>
                  <a:srgbClr val="eaeaea"/>
                </a:solidFill>
                <a:latin typeface="Comic Sans MS"/>
              </a:rPr>
              <a:t>(1843-1901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114800" cy="5257800"/>
          </a:xfrm>
          <a:prstGeom prst="rect">
            <a:avLst/>
          </a:prstGeom>
          <a:ln w="9360">
            <a:solidFill>
              <a:srgbClr val="7176b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28800" y="1066680"/>
            <a:ext cx="4476600" cy="55580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90720" y="152280"/>
            <a:ext cx="8153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18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omic Sans MS"/>
              </a:rPr>
              <a:t>Mark Hanna to Candidate McKinle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00200" y="152280"/>
            <a:ext cx="60199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18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eaeaea"/>
                </a:solidFill>
                <a:latin typeface="Comic Sans MS"/>
              </a:rPr>
              <a:t>A Giant Straddle”:  Suggestion for a McKinley Political Post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16925"/>
          <a:stretch/>
        </p:blipFill>
        <p:spPr>
          <a:xfrm>
            <a:off x="1600200" y="2362320"/>
            <a:ext cx="6248520" cy="4267080"/>
          </a:xfrm>
          <a:prstGeom prst="rect">
            <a:avLst/>
          </a:prstGeom>
          <a:ln w="9360">
            <a:solidFill>
              <a:srgbClr val="7878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248520" y="1523880"/>
            <a:ext cx="2590560" cy="309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18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The Seasoned Politici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v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The “Young” Newcom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8484" t="3613" r="8376" b="7233"/>
          <a:stretch/>
        </p:blipFill>
        <p:spPr>
          <a:xfrm>
            <a:off x="1755720" y="228600"/>
            <a:ext cx="4187880" cy="6324480"/>
          </a:xfrm>
          <a:prstGeom prst="rect">
            <a:avLst/>
          </a:prstGeom>
          <a:ln w="9360">
            <a:solidFill>
              <a:srgbClr val="7878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8:07:23Z</dcterms:created>
  <dc:creator> </dc:creator>
  <dc:description/>
  <dc:language>en-US</dc:language>
  <cp:lastModifiedBy>School District U46</cp:lastModifiedBy>
  <dcterms:modified xsi:type="dcterms:W3CDTF">2008-01-28T20:23:02Z</dcterms:modified>
  <cp:revision>41</cp:revision>
  <dc:subject/>
  <dc:title>The Gilded Age and Urban and Rural Discontent</dc:title>
</cp:coreProperties>
</file>